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6B8-E2A2-4AD2-BC1E-AA29405C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307-2CD5-4DC6-9A48-A448CD45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590-A188-401D-843F-0811BCAF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B30-E1B9-47B0-BD62-2A1CE205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A69-CDF8-4B29-8322-9B37C4B7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1DC9-0AB3-4AF0-BEB7-B0E71B1E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80E-1091-48FD-90CD-69A47FE4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033-FF25-449B-8835-930E1655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359-0793-47CC-960D-016D5548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546-5B21-46AC-9950-ECAAACFD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EE2-1020-41EF-85BE-81358A5E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09B-1FEC-4272-B54B-C6401393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4D86-4279-4595-901F-16F5F5326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971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927000"/>
            <a:ext cx="77040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492120"/>
            <a:ext cx="83516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65040"/>
            <a:ext cx="835164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617400"/>
            <a:ext cx="864216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2:54:19Z</dcterms:created>
  <dc:creator>enelco</dc:creator>
  <dc:description/>
  <dc:language>en-US</dc:language>
  <cp:lastModifiedBy>enelco</cp:lastModifiedBy>
  <dcterms:modified xsi:type="dcterms:W3CDTF">2009-04-30T12:54:34Z</dcterms:modified>
  <cp:revision>1</cp:revision>
  <dc:subject/>
  <dc:title>Слайд 1</dc:title>
</cp:coreProperties>
</file>