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D2D-B279-4EB5-9302-E05BABC8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3FE-4FB0-4FD0-BB05-6EE5B8B4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81C8-0A96-4592-A0BA-9520A2FA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328-B162-4F32-B651-B20A9024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30A-0996-4DCD-B3D3-4480D9CC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324-E3F9-4A46-AECA-D37DD946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71C-22D0-4D45-8D0F-0F3535F5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261-DEE4-4435-BCF7-A664FBF6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3A0-C5B3-4762-AE5E-F9ECEADA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962-2D8A-47C4-AF4D-DD654589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FBF-0AD2-4CA4-8ACB-CA296496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385-6B97-4178-9A71-5AF152C8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5BE1-38EF-4DF0-8A6F-1081F87B1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одель стандарта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чального военно-профессионального образования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ля  кадетских корпусов министерства об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24360" y="4581360"/>
          <a:ext cx="118116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4581360"/>
                    <a:ext cx="1181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187280" y="4869000"/>
            <a:ext cx="669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анкт-Петербургский Союз суворовцев, нахимовцев и кадет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оенно-Космический Петра Великого кадетский корпу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51280" y="189000"/>
          <a:ext cx="1495440" cy="15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189000"/>
                    <a:ext cx="149544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 профессиональной  характе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64160" y="1875240"/>
            <a:ext cx="7015680" cy="3643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8c8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lvl="1" marL="41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звание профессии: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младший командир воинского коллектив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тегрируемые специальности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ачальное обучение и вос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фессии по Перечню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30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«Начальное обучение и воспитание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о Классификатору специальностей среднего профессион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значение и сфера применения: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ля управления воинскими коллективами, обучения и воспитания  подчин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тупень квалифик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представляет собой этап подготовки профессиональных кадров в системе непрерывного образования. В данном случае начальное военно-профессиональное  образование  является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ервой ступень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епрерывного военно-профессионального образования в системе Министерства Обороны РФ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220500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амках данной ступени наличествуют различны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ровни квалифик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обуславливаемые следующими требованиями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бъемом и диапазоном знаний и ум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чеством знаний и умений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пособностью рационально организовать и планировать работу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пособностью быстро адаптироваться при изменении организации и условий службы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ходя из особенностей воинского труда младшего командира и объективной формой разделения воинских коллективов на отделение, взвод, роту, и выделяются в каждом конкретном случае взаимосвязанные по существу, но различающиеся  в  частных  специфических особенностях, профессиональные поля деятельности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командира отде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заместителя командира вз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командира учебной группы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старшины ро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курс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енные аспекты деятельности младших командиров ВВ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343640" cy="3700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подчинении командира отделени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-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человек, заместителя командира взвода 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-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 старшины роты 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-1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фера ответственности каждого  младшего командира соответствующей категории принадлежит его функциональным обязанностям, изложенным в Уставе внутренней служб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20108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075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ДЕЛЬ ГОС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чального военно-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258920" y="2421000"/>
            <a:ext cx="6888240" cy="3382920"/>
            <a:chOff x="1258920" y="2421000"/>
            <a:chExt cx="6888240" cy="3382920"/>
          </a:xfrm>
        </p:grpSpPr>
        <p:sp>
          <p:nvSpPr>
            <p:cNvPr id="77" name=""/>
            <p:cNvSpPr/>
            <p:nvPr/>
          </p:nvSpPr>
          <p:spPr>
            <a:xfrm>
              <a:off x="2833200" y="2421000"/>
              <a:ext cx="3739320" cy="633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Государственный образовательный стандар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58920" y="2421000"/>
              <a:ext cx="1279080" cy="633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рганы образ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68080" y="2421000"/>
              <a:ext cx="1279080" cy="633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О Р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33200" y="3266640"/>
              <a:ext cx="3739320" cy="633960"/>
            </a:xfrm>
            <a:prstGeom prst="rect">
              <a:avLst/>
            </a:prstGeom>
            <a:gradFill rotWithShape="0">
              <a:gsLst>
                <a:gs pos="0">
                  <a:srgbClr val="00a1a1"/>
                </a:gs>
                <a:gs pos="50000">
                  <a:srgbClr val="00ffff"/>
                </a:gs>
                <a:gs pos="100000">
                  <a:srgbClr val="00a1a1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валификационные требования и характеристи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58920" y="3266640"/>
              <a:ext cx="1279080" cy="74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Требования общего образ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68080" y="3266640"/>
              <a:ext cx="1279080" cy="84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Требования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енно-профессионального образова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58920" y="4429440"/>
              <a:ext cx="6888240" cy="13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Государственный образовательный стандар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начального военно-профессионального образ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57200" y="4535280"/>
              <a:ext cx="1869480" cy="52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 У 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18800" y="4535280"/>
              <a:ext cx="1869480" cy="52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 К 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80760" y="4535280"/>
              <a:ext cx="1869480" cy="52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 С 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50680" y="4006800"/>
              <a:ext cx="720" cy="5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46240" y="4006800"/>
              <a:ext cx="2262960" cy="528120"/>
            </a:xfrm>
            <a:custGeom>
              <a:avLst/>
              <a:gdLst/>
              <a:ahLst/>
              <a:rect l="l" t="t" r="r" b="b"/>
              <a:pathLst>
                <a:path w="3266" h="710">
                  <a:moveTo>
                    <a:pt x="0" y="0"/>
                  </a:moveTo>
                  <a:lnTo>
                    <a:pt x="0" y="284"/>
                  </a:lnTo>
                  <a:lnTo>
                    <a:pt x="3266" y="284"/>
                  </a:lnTo>
                  <a:lnTo>
                    <a:pt x="3266" y="7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55040" y="4112280"/>
              <a:ext cx="72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98240" y="4112280"/>
              <a:ext cx="2264400" cy="422640"/>
            </a:xfrm>
            <a:custGeom>
              <a:avLst/>
              <a:gdLst/>
              <a:ahLst/>
              <a:rect l="l" t="t" r="r" b="b"/>
              <a:pathLst>
                <a:path w="3268" h="568">
                  <a:moveTo>
                    <a:pt x="3266" y="0"/>
                  </a:moveTo>
                  <a:lnTo>
                    <a:pt x="3268" y="234"/>
                  </a:lnTo>
                  <a:lnTo>
                    <a:pt x="8" y="234"/>
                  </a:lnTo>
                  <a:lnTo>
                    <a:pt x="0" y="5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38000" y="2737800"/>
              <a:ext cx="29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72520" y="2737800"/>
              <a:ext cx="29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49320" y="3054960"/>
              <a:ext cx="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58480" y="3054960"/>
              <a:ext cx="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38000" y="3583800"/>
              <a:ext cx="29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72520" y="3583800"/>
              <a:ext cx="29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4760" y="3900960"/>
              <a:ext cx="0" cy="6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91720" y="3900960"/>
              <a:ext cx="1180800" cy="6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4920" y="3900960"/>
              <a:ext cx="1082160" cy="63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андарт уровня НВ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54480" y="820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79760" y="1601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79760" y="1862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54480" y="212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79760" y="3436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79760" y="369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79760" y="4478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54480" y="1935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9760" y="271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9760" y="2976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54480" y="3236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20764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хема организации квалификационных испыт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813744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ндарт качества НВП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1844280"/>
            <a:ext cx="82184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жность вида профессиональной деятельност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спертная оценка курсантов офицерами академии, имеющими опыт воспита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3370320"/>
            <a:ext cx="8353440" cy="279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8360" y="333360"/>
            <a:ext cx="8218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Младший комсостав  образует  ту основу,  на которой зиждется все дело дисциплинирования,  боевой спайки  и  боевой  подготовки ча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В.Фрун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50842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ый коэффициент качества требуемой подготовки сержантского состава для высших военно-учебных заведений, выведенный отношением баллов: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 : ЗКВ : СР = 1 : 1.2 : 1,1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зывает, что главной фигурой в ВВУЗе является заместитель командира взвода (командир учебной групп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560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Что такое СВУ, Кадетский Корпус силовых ведомств?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Что такое кадетское учебное заведение министерства образования?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Для чего они нужны?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Кого они готов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3573360"/>
            <a:ext cx="755964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2989440"/>
            <a:ext cx="856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ГОС среднего (полного) общего образования реализуется в рамках образовательных программ  начального и среднего профессионального образования вариантно с учетом профиля получаемого профессионального образования»  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(Закон РФ «Об образовании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Учреждение начального  профессионального  образования  может ... осуществлять в соответствии с законодательством РФ подготовку к военной службе "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(Типовое Положение  об учреждении начального профессионального образования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0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уктура военно-профессиональной подго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1268280"/>
            <a:ext cx="6264360" cy="8478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енно-профессиональная подготовк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82560" y="1846440"/>
            <a:ext cx="2795760" cy="630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лановые теоретические и практические зан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циклы дисципли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29040" y="1846440"/>
            <a:ext cx="2705400" cy="63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клад воинской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практическое приобретение военных навык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2674800"/>
            <a:ext cx="149688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оенно-гуманитарный цик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4221000"/>
            <a:ext cx="13525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икл общевоенных дисципли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3573360"/>
            <a:ext cx="142416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Цикл военно-специальных дисципли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3141720"/>
            <a:ext cx="135252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Цикл тактических дисципли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4365720"/>
            <a:ext cx="17002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орма одежды и воинская символ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3789360"/>
            <a:ext cx="16401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оинские звания и служебные отнош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2360" y="3141720"/>
            <a:ext cx="13525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нутренний порядок и служба войс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674800"/>
            <a:ext cx="137484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рганизация распорядка д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84720" y="4797360"/>
            <a:ext cx="14558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оинские традиции и ритуа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70480" y="2476440"/>
            <a:ext cx="180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81560" y="2476440"/>
            <a:ext cx="180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535440" y="2476440"/>
            <a:ext cx="6120" cy="13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2492280"/>
            <a:ext cx="144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260840" y="2476440"/>
            <a:ext cx="3240" cy="23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1120" y="2476440"/>
            <a:ext cx="6480" cy="1822680"/>
          </a:xfrm>
          <a:custGeom>
            <a:avLst/>
            <a:gdLst/>
            <a:ahLst/>
            <a:rect l="l" t="t" r="r" b="b"/>
            <a:pathLst>
              <a:path w="10" h="2870">
                <a:moveTo>
                  <a:pt x="10" y="0"/>
                </a:moveTo>
                <a:lnTo>
                  <a:pt x="0" y="287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78400" y="2495520"/>
            <a:ext cx="1440" cy="1143000"/>
          </a:xfrm>
          <a:custGeom>
            <a:avLst/>
            <a:gdLst/>
            <a:ahLst/>
            <a:rect l="l" t="t" r="r" b="b"/>
            <a:pathLst>
              <a:path w="1" h="1800">
                <a:moveTo>
                  <a:pt x="0" y="0"/>
                </a:moveTo>
                <a:lnTo>
                  <a:pt x="0" y="180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9760" y="2482920"/>
            <a:ext cx="1800" cy="711000"/>
          </a:xfrm>
          <a:custGeom>
            <a:avLst/>
            <a:gdLst/>
            <a:ahLst/>
            <a:rect l="l" t="t" r="r" b="b"/>
            <a:pathLst>
              <a:path w="1" h="1120">
                <a:moveTo>
                  <a:pt x="0" y="0"/>
                </a:moveTo>
                <a:lnTo>
                  <a:pt x="0" y="112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54440" y="2471760"/>
            <a:ext cx="1440" cy="241200"/>
          </a:xfrm>
          <a:custGeom>
            <a:avLst/>
            <a:gdLst/>
            <a:ahLst/>
            <a:rect l="l" t="t" r="r" b="b"/>
            <a:pathLst>
              <a:path w="1" h="380">
                <a:moveTo>
                  <a:pt x="0" y="0"/>
                </a:moveTo>
                <a:lnTo>
                  <a:pt x="0" y="3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072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ндарт содержания образов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пределяет перечень  учебных дисциплин, объем  (в учебных часах), последовательность и интенсивность изучения дисцип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2924280"/>
          <a:ext cx="8229600" cy="2652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я   НП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кация   НВП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технический ци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военных дисцип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ессиональный ци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енно-профессиональных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ктических) дисцип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ая подготовк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овый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ый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ая подготовк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енно-гуманитарный ци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енно-специальный ци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395280" y="3573360"/>
            <a:ext cx="8424720" cy="2517840"/>
            <a:chOff x="395280" y="3573360"/>
            <a:chExt cx="8424720" cy="251784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395280" y="3573360"/>
              <a:ext cx="842472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 txBox="1"/>
            <p:nvPr/>
          </p:nvSpPr>
          <p:spPr>
            <a:xfrm>
              <a:off x="395280" y="3573360"/>
              <a:ext cx="8424720" cy="251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8569080" cy="27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дель учебного плана образовательного учрежде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ьного военно-профессион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ок обучения 7 (4) лет на базе начального общ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должительность обучения:    в корпусе  - 34 уч.недели,     в лагере  -  4 уч.неде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имний отпуск  - 2 недели,  летний отпуск  -  8 недель, каникулы и праздники – 2 нед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981000"/>
          <a:ext cx="7920000" cy="4105440"/>
        </p:xfrm>
        <a:graphic>
          <a:graphicData uri="http://schemas.openxmlformats.org/drawingml/2006/table">
            <a:tbl>
              <a:tblPr/>
              <a:tblGrid>
                <a:gridCol w="5535720"/>
                <a:gridCol w="1276200"/>
                <a:gridCol w="1108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аспределение учебной нагруз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Обязательное обуче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щеобразовательная подготов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манитарны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о-научны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оенно-профессиональная подготов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 общевоенных дисцип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 военно-профессиональных дисцип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енно-гуманитарны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енно-специальный ци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8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Предметы по выбору (гуманитарный цик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Факультативы (ВГЦ, ВСЦ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на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080000" y="1231920"/>
            <a:ext cx="7128720" cy="45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lvl="1" marL="42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 прекрасное знание материала, четкие ответы на вопросы при свободной манере изложения, логичное формулирование мыслей и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способность отстаивать свою точку зрения в спор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94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2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1,1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 достаточно глубокие  знания  пройденного  материала, уверенные ответы на вопросы преподавателя,  ясную связанную речь, правильные выв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94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2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,8,7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 прочное усвоение пройденного материала,  но при этом не совсем четкое формулирование мыслей,  ответы с помощью наводящих вопросов;  при возражении преподавателя воспитанник сбивается и теряет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94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2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,5,4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 понимание в основном материала или темы, способность вспомнить с помощью преподавателя упущенное при ответе, не совсем ясную речь,  невнятный и не четкий ответ, допущенные смешения понятий или зазубренный тек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94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2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,2,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 практическое незнание материал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ценивание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080000" y="1231920"/>
            <a:ext cx="7128720" cy="45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lvl="1" marL="42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аллов получал воспитанник, который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"не только совершенно тверд в правилах нравственности ,  но,  отличаясь основательным и благородным образом мыслей и любовью к наукам успевал  приобрести доверие начальства и такое уважение товарищей, что примером своим имеет на них полезное влияние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и  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аллов ставились воспитанникам,  умевшим управлять своим поведением, не нарушавшим дисципли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,8,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аллов по поведению получали воспитанники, допускавшие определенные проступки по рассеянности или неосмотрительности, но всегда готовые в них раскаяться и стараться исправ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,5,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алла за посредственное поведение получали воспитанники, 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"впадающие  в проступки не по закоренелой наклонности к дурному, а более по увлечению вредными примерами других,  по неосновательности или испорченности характера, легкомыслию или малодушию, обнаруживающие дурное домашнее  воспитание,  если,  впрочем,  при увещеваниях они показывают раскаяние и тем подают надежду на свое исправление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рное поведение оценивалось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2,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алла, который ставился воспитаннику, который неоднократно совершал проступки и не  показывал при этом раскаяния и желание загладить их. К числу проступков относились обман и ложь, нарушение добрых отношений с товарищами, неопрятность и неряшливость,  нарушение благопристойности и циничные проявления, умышленная порча вещей и д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ценивание по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хема организации выпуска из К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51280" y="1341360"/>
            <a:ext cx="1785960" cy="4464000"/>
          </a:xfrm>
          <a:prstGeom prst="downArrow">
            <a:avLst>
              <a:gd name="adj1" fmla="val 70935"/>
              <a:gd name="adj2" fmla="val 1696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87640" y="1484280"/>
            <a:ext cx="3575160" cy="351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ыпу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0" y="907920"/>
            <a:ext cx="2806560" cy="360360"/>
          </a:xfrm>
          <a:prstGeom prst="rect">
            <a:avLst/>
          </a:prstGeom>
          <a:solidFill>
            <a:srgbClr val="00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с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907920"/>
            <a:ext cx="2786040" cy="451080"/>
          </a:xfrm>
          <a:prstGeom prst="rightArrow">
            <a:avLst>
              <a:gd name="adj1" fmla="val 68704"/>
              <a:gd name="adj2" fmla="val 7471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истема разря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836640"/>
            <a:ext cx="2297160" cy="450720"/>
          </a:xfrm>
          <a:prstGeom prst="leftArrow">
            <a:avLst>
              <a:gd name="adj1" fmla="val 65630"/>
              <a:gd name="adj2" fmla="val 6779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кан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38880" y="1701720"/>
            <a:ext cx="2297160" cy="541440"/>
          </a:xfrm>
          <a:prstGeom prst="leftArrowCallout">
            <a:avLst>
              <a:gd name="adj1" fmla="val 24882"/>
              <a:gd name="adj2" fmla="val 27347"/>
              <a:gd name="adj3" fmla="val 43154"/>
              <a:gd name="adj4" fmla="val 6002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каз по К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1773360"/>
            <a:ext cx="280656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ручение аттестата о среднем образ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4960" y="1773360"/>
            <a:ext cx="2786040" cy="450720"/>
          </a:xfrm>
          <a:prstGeom prst="rightArrow">
            <a:avLst>
              <a:gd name="adj1" fmla="val 68704"/>
              <a:gd name="adj2" fmla="val 7477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езультаты экзаме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2565360"/>
            <a:ext cx="28065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Зачисление в ВВУ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45360" y="2492280"/>
            <a:ext cx="2170080" cy="519120"/>
          </a:xfrm>
          <a:prstGeom prst="leftArrowCallout">
            <a:avLst>
              <a:gd name="adj1" fmla="val 24937"/>
              <a:gd name="adj2" fmla="val 25000"/>
              <a:gd name="adj3" fmla="val 41900"/>
              <a:gd name="adj4" fmla="val 592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аз по ВВУЗ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00560" y="3220920"/>
            <a:ext cx="2806560" cy="360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ИСЯ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3141720"/>
            <a:ext cx="2170080" cy="519120"/>
          </a:xfrm>
          <a:prstGeom prst="leftArrowCallout">
            <a:avLst>
              <a:gd name="adj1" fmla="val 24937"/>
              <a:gd name="adj2" fmla="val 25000"/>
              <a:gd name="adj3" fmla="val 41900"/>
              <a:gd name="adj4" fmla="val 5754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аз по ВВУЗ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09920" y="3751200"/>
            <a:ext cx="2806560" cy="4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ручение диплома/свиде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360" y="3770280"/>
            <a:ext cx="2786040" cy="450720"/>
          </a:xfrm>
          <a:prstGeom prst="rightArrow">
            <a:avLst>
              <a:gd name="adj1" fmla="val 68704"/>
              <a:gd name="adj2" fmla="val 7477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езультаты 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95640" y="4363920"/>
            <a:ext cx="3319560" cy="4510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изводство в З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4365720"/>
            <a:ext cx="1638360" cy="450720"/>
          </a:xfrm>
          <a:prstGeom prst="rightArrow">
            <a:avLst>
              <a:gd name="adj1" fmla="val 68704"/>
              <a:gd name="adj2" fmla="val 4397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ттес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59400" y="4321080"/>
            <a:ext cx="2168640" cy="519120"/>
          </a:xfrm>
          <a:prstGeom prst="leftArrowCallout">
            <a:avLst>
              <a:gd name="adj1" fmla="val 24937"/>
              <a:gd name="adj2" fmla="val 25000"/>
              <a:gd name="adj3" fmla="val 41872"/>
              <a:gd name="adj4" fmla="val 5754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аз по ВВУЗ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5157720"/>
            <a:ext cx="2681280" cy="27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 Т П У С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32000" y="5877000"/>
            <a:ext cx="3191040" cy="355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Цикл начальной военной подгот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спективы использования специалиста НВП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ускник профилированного кадетского  корпуса  с  дипломом, подтверждающим его профессию младшего командира воинского коллектива и специальность (начальное военно-профессиональное  обучение и воспитание) должен иметь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раво на замещение должност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омандира отделения, заместителя командира взвода или старшины роты и им равных при поступлении в ВВУ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лучае отказа от дальнейшего обучения в высшем военно-профессиональном учебном  заведении,  но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ри желании продолжить профессиональную службу в войск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выпускник кадетского корпуса, как высокообразованный и подготовленный командир,  должен иметь право на замещение адекватных должностей сержантского состава в  армии. Для этого  Диплом начального военно-профессионального образования должен быть сертифицирован в МО РФ. В условиях профессионализации армии насущным встанет вопрос о младшем командире – профессионале своего дела.  Такой профессиональный сержантский состав может готовить профилированный кадетский корп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конец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ри полном отказе от военной карь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ыпускник корпуса может иметь право не проходить ВКИ.  В этом случае,  как и в случае если выпускник не выдерживает испытаний, ему Диплом не выдается, и он пользуется правами обычного выпускника средне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иски из зако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О воинской обязанности и военной служб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УПЛЕНИЕ ГРАЖДАН НА ВОЕННУЮ СЛУЖБУ ПО КОНТРАК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тья 35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упление граждан в военные образовательные учреждения профессионального образова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ключение контрактов о прохождении военной службы с гражданами, обучающимися в военных образовательных учреждениях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 В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оенные образовательные учреждения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профессионального образова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право поступ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граждане, не проходившие военную службу, - в возрасте </a:t>
            </a: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от 1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 22 лет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е, зачисленные в военные образовательные учреждения профессионального образования, назначаются на воинские должности курсантов, слушателей ил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ные воинские должно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рядке, определенном настоящим Федеральным законом, Положением о порядке прохождения военной службы 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ными нормативными правовыми акта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оссийской Федер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      Граждане, не проходившие военную службу,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 зачислении в военные образовательные учреждения профессионального образования приобретают статус военнослужащи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проходящих военную службу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 призыв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 заключают контракт о прохождении военной службы по достижении ими возраста 18 лет, но не ранее окончания ими первого курса обучения в указанных образовательных учрежден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ДЕЛ VI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АС ВООРУЖЕННЫХ СИЛ РОССИЙСКОЙ ФЕДЕРАЦИ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тья 5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вобождение от военных с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От военных сборов также освобожда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) граждане, являющиеся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педагогическими работниками образовательных учрежд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тья 57. Присвоение воинских званий гражданам, пребывающим в запа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офице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ай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капитана 3 ранга включительно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андующим войсками военного окру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лков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капитана 1 ранга включительно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инистром оборо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147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обенности профессиональной  деятельности младших командиров курсантских подразделений ВВУЗ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1628640"/>
          <a:ext cx="8229600" cy="4575240"/>
        </p:xfrm>
        <a:graphic>
          <a:graphicData uri="http://schemas.openxmlformats.org/drawingml/2006/table">
            <a:tbl>
              <a:tblPr/>
              <a:tblGrid>
                <a:gridCol w="4824360"/>
                <a:gridCol w="3405240"/>
              </a:tblGrid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пецифика деятельности младшего командира курсантского подразделения ВВУЗа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ражданский аналог профессиональной подготовк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четание деятельности руководителя коллектива и воспитателя подчиненных в одном лиц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 аналога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воинским коллективом (15-35 чел.) в сочетании с индивидуально-воспитательной работ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высшего профессионального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ьная работа со сверст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 аналог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ь и воспитанник находятся в одинаковых условиях общежития круглосуточ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 аналог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ьность: начальное военное обучение и воспи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 аналог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решаемых задач – диагностически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ров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высшего или среднего профессионального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дание статуса ОУ типа кадетских корпусов силовых ведомств как ОУ НВПО на первом этапе позвол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сить уровень статуса воспитательного и преподавательского соста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формировать окончательно систему непрерывности военно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йти к вопросу законодательного оформления срока военной службы воспитанникам с 16 лет, что немаловажно в стаже службы в предпенсионном возра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ить законодательно установленное право прохождение офицерами службы в запа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спространить данную модель на другие кадетские заведения профессиональной подготовки в конкретной сфере требуемых професс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000" y="476280"/>
            <a:ext cx="7343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оделирование системы военно-подготовительных учебных заведений МО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Профилированная общеобразовательная подгото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8352000" cy="31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Специализированная военная подгото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769080" cy="349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516640"/>
            <a:ext cx="8229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юдже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ункциональная модель процесса обуче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У начального военно-профессионального 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7690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ые Положения Государственного Стандарта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чального профессионального образ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водят в требова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держ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вн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че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офессионального образования два компонента: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федеральный и  национально-региональ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ий  включает  требования регионов по качеству и содержанию подготовки требуемых специалистов,  образует стандарты на профессии,  не вошедшие в Федеральный Перечень,  дополняет обязательный минимум содержания обучения по профессиям Федерального Перечня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2997360"/>
          <a:ext cx="8229600" cy="332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едеральный компоне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енно-профессиональный компонен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образовательная подгото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иональная подготов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техн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профессион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ы по выбо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атив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ерв времени на профильные дисципл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иональная подготов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щево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щепрофессион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енно-специ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ы по выбо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атив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уктура учебного плана кадетского корпус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561440" cy="32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0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фессиональная характерист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описательная модель профессии, определяющая конечные цели профессиональной подготовки, которая:</a:t>
            </a:r>
            <a:br>
              <a:rPr sz="2000"/>
            </a:b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тража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бщие интегрированные требования к знаниям и умениям по профессии (безотносительно разрядов,  классов, категорий) 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требования к отдельным специальностям;</a:t>
            </a:r>
            <a:br>
              <a:rPr sz="2000"/>
            </a:b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едназнач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аучного обоснованного отбора содержания обучения по интегрированным профессиям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разработки системы контроля за качеством профессиональной подготовки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рганизации работы по профессиональной ориентации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пределению форм повышения квалификаци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6560" y="620640"/>
            <a:ext cx="7993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404640"/>
            <a:ext cx="799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Есть такая профессия – Родину защищ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3:43:21Z</dcterms:created>
  <dc:creator>enelco</dc:creator>
  <dc:description/>
  <dc:language>en-US</dc:language>
  <cp:lastModifiedBy>86257</cp:lastModifiedBy>
  <dcterms:modified xsi:type="dcterms:W3CDTF">2009-04-23T14:33:30Z</dcterms:modified>
  <cp:revision>28</cp:revision>
  <dc:subject/>
  <dc:title>Слайд 1</dc:title>
</cp:coreProperties>
</file>