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drumroll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2570-2B54-4715-A81F-839BF0D2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6E3F-0ACD-454C-948C-B6CAC8FD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A4F0-D839-4CF6-8A86-BF068A932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98F8-8FDF-4F15-A2BB-5A3A2FA3E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FED9-1477-4A84-831B-5D69D029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2FFA-F972-4A8A-B6A3-02BA1FF5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D026-77FF-449D-8E5F-21E5ED12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1BA9-0820-4689-BB44-B4BCC75E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A708-7816-4ED3-895D-B2518A26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4CEC-3C8D-4807-9E5B-5B220B94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6CE1-02F5-4E04-97CC-1CAC27D7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7A80-7FD9-4CA7-AA26-8501F3DA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963F-89E8-404F-9273-5D53F6589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2667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кт-Петербургская академия постдипломного педагогического образования</a:t>
            </a:r>
            <a:br>
              <a:rPr sz="20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федр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циально-педагогических измер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4412880"/>
            <a:ext cx="3790800" cy="2444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ведующий кафед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воровец Саратовского СВУ, полковник, доктор соц.наук, професс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рлов Валентин Федор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л. 314-99-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-mail: csim@rambler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u"/>
    <p:sndAc>
      <p:stSnd>
        <p:snd r:embed="rId3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сть имею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  <p:sndAc>
      <p:stSnd>
        <p:snd r:embed="rId2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блемы институционализации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ВУ, НВМУ, К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14600" y="1935000"/>
            <a:ext cx="3695760" cy="4923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  <p:sndAc>
      <p:stSnd>
        <p:snd r:embed="rId2" name="drumroll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 Многообраз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ор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SzPct val="1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У – 9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Екатеринбург, Казань, Москва (обычное и военно-музыкальное), Санкт-Петербург, Тверь, Уссурийск, Ульяновск, Северокавказско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1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ВМУ – 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анкт-Петербург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К для Минобороны – 7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кетно-артиллерийиский, военно-морской (Кронштадт), военно-космический, железно-дорожных войск;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лья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военно-технический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емеров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радиоэлектроники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м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1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гиональные КК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тайский край, Красноярский край ( 2285 - мальчиков, 496 девочек в Мариинских женских гимназиях), Свердловская область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1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домственные К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МВД, МЧС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u"/>
    <p:sndAc>
      <p:stSnd>
        <p:snd r:embed="rId1" name="drumroll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7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7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7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7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77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77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Противоречивость ц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SzPct val="1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готовка эли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SzPct val="1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чальная подготовка военных профессион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SzPct val="1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сударственная поддержка дет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оеннослужащих, сирот, многодетных семей, родители имеют гос. награды и т.п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SzPct val="1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ализация «корпоративных» потребностей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ВД, МЧС, казаки и т.п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u"/>
    <p:sndAc>
      <p:stSnd>
        <p:snd r:embed="rId1" name="drumroll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Неопределенность содержания 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SzPct val="1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ого по стандартам МИНОБР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SzPct val="1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сто регионального станда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SzPct val="1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зовательная перегрузка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SzPct val="1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дисциплинарные связ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548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5867280"/>
            <a:ext cx="3200400" cy="76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28240" y="575136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н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70880" y="5715000"/>
            <a:ext cx="165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ципи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u"/>
    <p:sndAc>
      <p:stSnd>
        <p:snd r:embed="rId1" name="drumroll.wav"/>
      </p:stSnd>
    </p:sndAc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80"/>
                            </p:stCondLst>
                            <p:childTnLst>
                              <p:par>
                                <p:cTn id="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20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440"/>
                            </p:stCondLst>
                            <p:childTnLst>
                              <p:par>
                                <p:cTn id="1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400"/>
                            </p:stCondLst>
                            <p:childTnLst>
                              <p:par>
                                <p:cTn id="15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77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77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4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900"/>
                            </p:stCondLst>
                            <p:childTnLst>
                              <p:par>
                                <p:cTn id="1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 Размытость управл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SzPct val="1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тельство Р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SzPct val="1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нистерства (МО и МинОБР и т.п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SzPct val="1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гиональные органы в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SzPct val="1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униципальные органы в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SzPct val="1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ственные орга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то отвечает за обучение и воспитание в СВУ, НВМУ и К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548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u"/>
    <p:sndAc>
      <p:stSnd>
        <p:snd r:embed="rId1" name="drumroll.wav"/>
      </p:stSnd>
    </p:sndAc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4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800"/>
                            </p:stCondLst>
                            <p:childTnLst>
                              <p:par>
                                <p:cTn id="1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8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84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800"/>
                            </p:stCondLst>
                            <p:childTnLst>
                              <p:par>
                                <p:cTn id="21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77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77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ариативность финансиров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SzPct val="1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судар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SzPct val="1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ги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SzPct val="1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униципальные орг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SzPct val="1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ственные орга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SzPct val="1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Юридические и физические 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ть предложения делить воспитанников КК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питанников на полном гос. пансио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питанников – стипендиатов (за счет юридических и физ. лиц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оекоштных воспитанников – за счет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43200" y="548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u"/>
    <p:sndAc>
      <p:stSnd>
        <p:snd r:embed="rId1" name="drumroll.wav"/>
      </p:stSnd>
    </p:sndAc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80"/>
                            </p:stCondLst>
                            <p:childTnLst>
                              <p:par>
                                <p:cTn id="2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80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60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60"/>
                            </p:stCondLst>
                            <p:childTnLst>
                              <p:par>
                                <p:cTn id="2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64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2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64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2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64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20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964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0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Подбор и подготовка воспитате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SzPct val="1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дровые офиц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SzPct val="1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енные пенсион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SzPct val="1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ражданские воспита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548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u"/>
    <p:sndAc>
      <p:stSnd>
        <p:snd r:embed="rId1" name="drumroll.wav"/>
      </p:stSnd>
    </p:sndAc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640"/>
                            </p:stCondLst>
                            <p:childTnLst>
                              <p:par>
                                <p:cTn id="2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360"/>
                            </p:stCondLst>
                            <p:childTnLst>
                              <p:par>
                                <p:cTn id="2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Подготовка и повышение квалификации педагог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ff"/>
              </a:buClr>
              <a:buSzPct val="1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ВУЗах нет специальностей  и даже специализаций (этого нет и для профильного обучения в обычных ГО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ff"/>
              </a:buClr>
              <a:buSzPct val="1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 готовят преподавателей для обучения детей по военным дисципли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ff"/>
              </a:buClr>
              <a:buSzPct val="1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сутствует система повышения квалификации для преподавателей СВУ, НВМУ, ККМО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548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u"/>
    <p:sndAc>
      <p:stSnd>
        <p:snd r:embed="rId1" name="drumroll.wav"/>
      </p:stSnd>
    </p:sndAc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48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920"/>
                            </p:stCondLst>
                            <p:childTnLst>
                              <p:par>
                                <p:cTn id="3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14:36:45Z</dcterms:created>
  <dc:creator>1</dc:creator>
  <dc:description/>
  <dc:language>en-US</dc:language>
  <cp:lastModifiedBy>ЦСИМ</cp:lastModifiedBy>
  <dcterms:modified xsi:type="dcterms:W3CDTF">2009-04-21T07:04:5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