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wmf" ContentType="image/x-wmf"/>
  <Override PartName="/ppt/media/image30.png" ContentType="image/png"/>
  <Override PartName="/ppt/media/image27.wmf" ContentType="image/x-wmf"/>
  <Override PartName="/ppt/media/image2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39.png" ContentType="image/png"/>
  <Override PartName="/ppt/media/image10.wmf" ContentType="image/x-wmf"/>
  <Override PartName="/ppt/media/image36.png" ContentType="image/png"/>
  <Override PartName="/ppt/media/image37.png" ContentType="image/png"/>
  <Override PartName="/ppt/media/image38.png" ContentType="image/png"/>
  <Override PartName="/ppt/media/image41.png" ContentType="image/png"/>
  <Override PartName="/ppt/media/image9.wmf" ContentType="image/x-wmf"/>
  <Override PartName="/ppt/media/image14.png" ContentType="image/png"/>
  <Override PartName="/ppt/media/image42.png" ContentType="image/png"/>
  <Override PartName="/ppt/media/image43.png" ContentType="image/png"/>
  <Override PartName="/ppt/media/image2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0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34.png" ContentType="image/png"/>
  <Override PartName="/ppt/media/image7.wmf" ContentType="image/x-wmf"/>
  <Override PartName="/ppt/media/image1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6.wmf" ContentType="image/x-wmf"/>
  <Override PartName="/ppt/media/image35.png" ContentType="image/png"/>
  <Override PartName="/ppt/media/image5.png" ContentType="image/png"/>
  <Override PartName="/ppt/media/image1.png" ContentType="image/png"/>
  <Override PartName="/ppt/media/image29.wmf" ContentType="image/x-wmf"/>
  <Override PartName="/ppt/media/image31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5913-D127-4615-A89C-E4AA20B9C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4299-C6D1-49B7-A8D0-03483113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5CEA-FE01-4524-9828-23681C5B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3B6B-9F3E-48F0-A58B-CA00B0C9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B433-D5A7-4341-B9C2-5DBD5EBA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CBE8-D5D8-4571-A4B8-A6A459DD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4BF8-DD76-4892-997B-55F3C8C6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0755-EF2D-4E57-8EDF-945B7A9D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A267-CE62-4693-B3DA-963A2B82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5825-2238-411B-95B8-7AE9FC9C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D397-96FE-4814-B97B-E1AAF4DDF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4526-7639-48F5-A038-6F597A45F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E268-76AA-43B9-85F5-C8A4E556A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4FCA-6CD7-4EFA-8720-5CB9018E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9037-3E29-473E-8D87-F3543B5F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A550-A5A5-49C7-8AA5-DC5511B6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F44B-874D-4B93-BEB3-EE653A04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E743-E998-4B4F-ACEC-1F0FDB78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2BB6-BC6F-4C20-BA7E-D2672E85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1F0E-7DBC-4C07-95B2-0828F439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24B9-B1CE-48EB-A331-E7319B8D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BB55-A715-48F3-BD38-50F61255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DAFFD-071C-4883-99DC-33CECE7F8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A9AC-5C95-4429-B658-49BBE05BF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cc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80A1-B1AC-4691-91FC-E0BF58273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cc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8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8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8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8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8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8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8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8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9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9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9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0755-9F0B-4561-8AA9-3512F11251F0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image" Target="../media/image21.png"/><Relationship Id="rId7" Type="http://schemas.openxmlformats.org/officeDocument/2006/relationships/image" Target="../media/image2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cc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66720" y="76320"/>
            <a:ext cx="4876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00"/>
                </a:solidFill>
                <a:latin typeface="Arial"/>
              </a:rPr>
              <a:t>Проект «Кадетское образование»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5" name="Прямоугольник 4" descr=""/>
          <p:cNvPicPr/>
          <p:nvPr/>
        </p:nvPicPr>
        <p:blipFill>
          <a:blip r:embed="rId1"/>
          <a:stretch/>
        </p:blipFill>
        <p:spPr>
          <a:xfrm>
            <a:off x="341280" y="1189080"/>
            <a:ext cx="8955000" cy="167652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6"/>
          <p:cNvSpPr/>
          <p:nvPr/>
        </p:nvSpPr>
        <p:spPr>
          <a:xfrm>
            <a:off x="3733920" y="5638680"/>
            <a:ext cx="1371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Cambria"/>
              </a:rPr>
              <a:t>   </a:t>
            </a:r>
            <a:br>
              <a:rPr sz="2800"/>
            </a:br>
            <a:r>
              <a:rPr b="1" lang="en-US" sz="2800" spc="-1" strike="noStrike">
                <a:solidFill>
                  <a:srgbClr val="660033"/>
                </a:solidFill>
                <a:latin typeface="Cambria"/>
              </a:rPr>
              <a:t>2009                 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7" name="Прямоугольник 5" descr=""/>
          <p:cNvPicPr/>
          <p:nvPr/>
        </p:nvPicPr>
        <p:blipFill>
          <a:blip r:embed="rId2"/>
          <a:stretch/>
        </p:blipFill>
        <p:spPr>
          <a:xfrm>
            <a:off x="274680" y="2846520"/>
            <a:ext cx="9266040" cy="3365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cc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267080" y="763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00"/>
                </a:solidFill>
                <a:latin typeface="Arial"/>
              </a:rPr>
              <a:t>Проект «Кадетское образование»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457200" y="1371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Cambria"/>
              </a:rPr>
              <a:t>Зависимость перспективы 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Cambria"/>
              </a:rPr>
              <a:t>от собственных усилий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65" name="Рисунок 10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4302000" cy="2648160"/>
          </a:xfrm>
          <a:prstGeom prst="rect">
            <a:avLst/>
          </a:prstGeom>
          <a:ln w="38160">
            <a:solidFill>
              <a:srgbClr val="456800"/>
            </a:solidFill>
            <a:miter/>
          </a:ln>
        </p:spPr>
      </p:pic>
      <p:pic>
        <p:nvPicPr>
          <p:cNvPr id="166" name="Рисунок 1" descr=""/>
          <p:cNvPicPr/>
          <p:nvPr/>
        </p:nvPicPr>
        <p:blipFill>
          <a:blip r:embed="rId2"/>
          <a:stretch/>
        </p:blipFill>
        <p:spPr>
          <a:xfrm>
            <a:off x="4648320" y="3143160"/>
            <a:ext cx="4302000" cy="264816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cc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4267080" y="763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00"/>
                </a:solidFill>
                <a:latin typeface="Arial"/>
              </a:rPr>
              <a:t>Проект «Кадетское образование»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Cambria"/>
              </a:rPr>
              <a:t>Отношение к профессии: учителя 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1219320" y="2666880"/>
            <a:ext cx="6705360" cy="3700440"/>
          </a:xfrm>
          <a:prstGeom prst="rect">
            <a:avLst/>
          </a:prstGeom>
          <a:ln w="57240">
            <a:solidFill>
              <a:srgbClr val="334d00"/>
            </a:solidFill>
            <a:miter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cc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4267080" y="763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00"/>
                </a:solidFill>
                <a:latin typeface="Arial"/>
              </a:rPr>
              <a:t>Проект «Кадетское образование»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3300"/>
                </a:solidFill>
                <a:latin typeface="Cambria"/>
              </a:rPr>
              <a:t>Учителя</a:t>
            </a: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4300" spc="-1" strike="noStrike">
                <a:solidFill>
                  <a:srgbClr val="003300"/>
                </a:solidFill>
                <a:latin typeface="Cambria"/>
              </a:rPr>
              <a:t>Воспитатели</a:t>
            </a:r>
            <a:endParaRPr b="0" lang="en-US" sz="43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2" name="Прямоугольник 5"/>
          <p:cNvSpPr/>
          <p:nvPr/>
        </p:nvSpPr>
        <p:spPr>
          <a:xfrm>
            <a:off x="357120" y="2286000"/>
            <a:ext cx="364644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1222b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21222b"/>
                </a:solidFill>
                <a:latin typeface="Verdana"/>
              </a:rPr>
              <a:t>Если бы Вам была предоставлена возможность выбора: Вы остались бы в «военной» школе или перешли бы в обычную «гражданскую»?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3" name="Прямоугольник 6"/>
          <p:cNvSpPr/>
          <p:nvPr/>
        </p:nvSpPr>
        <p:spPr>
          <a:xfrm>
            <a:off x="5143680" y="2357280"/>
            <a:ext cx="36432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1222b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21222b"/>
                </a:solidFill>
                <a:latin typeface="Verdana"/>
              </a:rPr>
              <a:t>Если бы воспитателям была предоставлена возможность выбора, остались бы они на этой должности?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457200" y="4267080"/>
            <a:ext cx="41432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талась(ся) бы там, где работаю - 76%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удно сказать определенно - 22%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ерешла(ел) бы в «гражданскую» - 2%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5105520" y="4267080"/>
            <a:ext cx="38242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стался бы – 61%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удно сказать определенно- 28%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ет, не остался бы – 11%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cc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4267080" y="763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00"/>
                </a:solidFill>
                <a:latin typeface="Arial"/>
              </a:rPr>
              <a:t>Проект «Кадетское образование»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660033"/>
                </a:solidFill>
                <a:latin typeface="Cambria"/>
              </a:rPr>
              <a:t>Интерес к работе</a:t>
            </a:r>
            <a:endParaRPr b="0" lang="en-US" sz="43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78" name="Object 2"/>
          <p:cNvGraphicFramePr/>
          <p:nvPr/>
        </p:nvGraphicFramePr>
        <p:xfrm>
          <a:off x="500040" y="2514600"/>
          <a:ext cx="8126280" cy="345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2514600"/>
                    <a:ext cx="8126280" cy="3457440"/>
                  </a:xfrm>
                  <a:prstGeom prst="rect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cc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971720" cy="11430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6"/>
          <p:cNvSpPr/>
          <p:nvPr/>
        </p:nvSpPr>
        <p:spPr>
          <a:xfrm>
            <a:off x="4267080" y="763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00"/>
                </a:solidFill>
                <a:latin typeface="Arial"/>
              </a:rPr>
              <a:t>Проект «Кадетское образование»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660033"/>
                </a:solidFill>
                <a:latin typeface="Cambria"/>
              </a:rPr>
              <a:t>Наибольшая удовлетворенность:</a:t>
            </a:r>
            <a:endParaRPr b="0" lang="en-US" sz="43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2057400"/>
            <a:ext cx="7972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Cambria"/>
              </a:rPr>
              <a:t>Учителя</a:t>
            </a:r>
            <a:r>
              <a:rPr b="1" lang="en-US" sz="4000" spc="-1" strike="noStrike">
                <a:solidFill>
                  <a:srgbClr val="003300"/>
                </a:solidFill>
                <a:latin typeface="Cambria"/>
              </a:rPr>
              <a:t>	</a:t>
            </a:r>
            <a:r>
              <a:rPr b="1" lang="en-US" sz="4000" spc="-1" strike="noStrike">
                <a:solidFill>
                  <a:srgbClr val="003300"/>
                </a:solidFill>
                <a:latin typeface="Cambria"/>
              </a:rPr>
              <a:t>             Воспитатели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571680" y="3071880"/>
            <a:ext cx="4143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тношения с педагогами – 63%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тношения с командованием – 46%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Возможность повышения квалификации – 42%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тношения с воспитанниками – 39%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4929120" y="3071880"/>
            <a:ext cx="399564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тношения с офицерами – 61%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тношения с воспитанниками – 42%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тношения с родителями – 42%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воей подготовкой к работе воспитателя – 40%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cc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971720" cy="11430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6"/>
          <p:cNvSpPr/>
          <p:nvPr/>
        </p:nvSpPr>
        <p:spPr>
          <a:xfrm>
            <a:off x="4267080" y="763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00"/>
                </a:solidFill>
                <a:latin typeface="Arial"/>
              </a:rPr>
              <a:t>Проект «Кадетское образование»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88" name="Rectangle 2" descr=""/>
          <p:cNvPicPr/>
          <p:nvPr/>
        </p:nvPicPr>
        <p:blipFill>
          <a:blip r:embed="rId2"/>
          <a:stretch/>
        </p:blipFill>
        <p:spPr>
          <a:xfrm>
            <a:off x="450720" y="646200"/>
            <a:ext cx="8242560" cy="17985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4"/>
          <p:cNvSpPr/>
          <p:nvPr/>
        </p:nvSpPr>
        <p:spPr>
          <a:xfrm>
            <a:off x="571680" y="2286000"/>
            <a:ext cx="7972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ambria"/>
              </a:rPr>
              <a:t>Учителя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ambria"/>
              </a:rPr>
              <a:t>	</a:t>
            </a:r>
            <a:r>
              <a:rPr b="1" lang="en-US" sz="3600" spc="-1" strike="noStrike">
                <a:solidFill>
                  <a:srgbClr val="003300"/>
                </a:solidFill>
                <a:latin typeface="Cambria"/>
              </a:rPr>
              <a:t>	</a:t>
            </a:r>
            <a:r>
              <a:rPr b="1" lang="en-US" sz="3600" spc="-1" strike="noStrike">
                <a:solidFill>
                  <a:srgbClr val="003300"/>
                </a:solidFill>
                <a:latin typeface="Cambria"/>
              </a:rPr>
              <a:t>                       </a:t>
            </a:r>
            <a:r>
              <a:rPr b="1" lang="en-US" sz="3600" spc="-1" strike="noStrike">
                <a:solidFill>
                  <a:srgbClr val="003300"/>
                </a:solidFill>
                <a:latin typeface="Cambria"/>
              </a:rPr>
              <a:t>Воспитатели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457200" y="3200400"/>
            <a:ext cx="414324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воей работой в целом – 22%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Условиями труда – 21%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Учебно-методическим обеспечением – 12%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4643280" y="3357720"/>
            <a:ext cx="41436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Возможностью повышения квалификации – 29%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Учебно-методическим обеспечением – 20%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Условиями труда – 18%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cc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4267080" y="763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00"/>
                </a:solidFill>
                <a:latin typeface="Arial"/>
              </a:rPr>
              <a:t>Проект «Кадетское образование»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660033"/>
                </a:solidFill>
                <a:latin typeface="Cambria"/>
              </a:rPr>
              <a:t>Недостатки подготовки:</a:t>
            </a:r>
            <a:endParaRPr b="0" lang="en-US" sz="43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685800" y="1828800"/>
            <a:ext cx="7972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ambria"/>
              </a:rPr>
              <a:t>Учителя</a:t>
            </a:r>
            <a:r>
              <a:rPr b="1" lang="en-US" sz="3600" spc="-1" strike="noStrike">
                <a:solidFill>
                  <a:srgbClr val="003300"/>
                </a:solidFill>
                <a:latin typeface="Cambria"/>
              </a:rPr>
              <a:t>	</a:t>
            </a:r>
            <a:r>
              <a:rPr b="1" lang="en-US" sz="3600" spc="-1" strike="noStrike">
                <a:solidFill>
                  <a:srgbClr val="003300"/>
                </a:solidFill>
                <a:latin typeface="Cambria"/>
              </a:rPr>
              <a:t>          Воспитатели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380880" y="2743200"/>
            <a:ext cx="407196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е хватает теоретических знаний – 29%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пецифика работы в «военной» школе, отличная от «гражданской»- 23%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е хватает практического опыта- 48%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4714920" y="2643120"/>
            <a:ext cx="428148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Отсутствие специального образования – 46%</a:t>
            </a:r>
            <a:endParaRPr b="0" lang="en-US" sz="19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Недостаточная методическая подготовка – 13%</a:t>
            </a:r>
            <a:endParaRPr b="0" lang="en-US" sz="19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Малый стаж работы -20%</a:t>
            </a:r>
            <a:endParaRPr b="0" lang="en-US" sz="19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Недостаточное знание специфики работы с детьми в ОУ закрытого типа – 8%</a:t>
            </a:r>
            <a:endParaRPr b="0" lang="en-US" sz="19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cc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4267080" y="763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00"/>
                </a:solidFill>
                <a:latin typeface="Arial"/>
              </a:rPr>
              <a:t>Проект «Кадетское образование»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8483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Cambria"/>
              </a:rPr>
              <a:t>Педагогическая позиция:</a:t>
            </a:r>
            <a:br>
              <a:rPr sz="3200"/>
            </a:br>
            <a:r>
              <a:rPr b="1" lang="en-US" sz="3200" spc="-1" strike="noStrike">
                <a:solidFill>
                  <a:srgbClr val="660033"/>
                </a:solidFill>
                <a:latin typeface="Cambria"/>
              </a:rPr>
              <a:t>  1 фактор – традиции, нормы, </a:t>
            </a:r>
            <a:br>
              <a:rPr sz="3200"/>
            </a:br>
            <a:r>
              <a:rPr b="1" lang="en-US" sz="3200" spc="-1" strike="noStrike">
                <a:solidFill>
                  <a:srgbClr val="660033"/>
                </a:solidFill>
                <a:latin typeface="Cambria"/>
              </a:rPr>
              <a:t>«жесткая модель воспитания»</a:t>
            </a:r>
            <a:br>
              <a:rPr sz="3200"/>
            </a:b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714240" y="2286000"/>
          <a:ext cx="7686720" cy="4264200"/>
        </p:xfrm>
        <a:graphic>
          <a:graphicData uri="http://schemas.openxmlformats.org/drawingml/2006/table">
            <a:tbl>
              <a:tblPr/>
              <a:tblGrid>
                <a:gridCol w="884520"/>
                <a:gridCol w="5849640"/>
                <a:gridCol w="952560"/>
              </a:tblGrid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65%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gradFill rotWithShape="0">
                      <a:gsLst>
                        <a:gs pos="0">
                          <a:srgbClr val="92cfcf"/>
                        </a:gs>
                        <a:gs pos="100000">
                          <a:srgbClr val="e0efe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Я знаю, как воспитанники должны вести себя, и добиваюсь этого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gradFill rotWithShape="0">
                      <a:gsLst>
                        <a:gs pos="0">
                          <a:srgbClr val="92cfcf"/>
                        </a:gs>
                        <a:gs pos="100000">
                          <a:srgbClr val="e0efe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70%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gradFill rotWithShape="0">
                      <a:gsLst>
                        <a:gs pos="0">
                          <a:srgbClr val="92cfcf"/>
                        </a:gs>
                        <a:gs pos="100000">
                          <a:srgbClr val="e0efef"/>
                        </a:gs>
                      </a:gsLst>
                      <a:lin ang="8100000"/>
                    </a:gradFill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56%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gradFill rotWithShape="0">
                      <a:gsLst>
                        <a:gs pos="0">
                          <a:srgbClr val="92cfcf"/>
                        </a:gs>
                        <a:gs pos="100000">
                          <a:srgbClr val="e0efe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Воспитанники должны, безусловно, выполнять требования учителя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gradFill rotWithShape="0">
                      <a:gsLst>
                        <a:gs pos="0">
                          <a:srgbClr val="92cfcf"/>
                        </a:gs>
                        <a:gs pos="100000">
                          <a:srgbClr val="e0efe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gradFill rotWithShape="0">
                      <a:gsLst>
                        <a:gs pos="0">
                          <a:srgbClr val="92cfcf"/>
                        </a:gs>
                        <a:gs pos="100000">
                          <a:srgbClr val="e0efef"/>
                        </a:gs>
                      </a:gsLst>
                      <a:lin ang="8100000"/>
                    </a:gradFill>
                  </a:tcPr>
                </a:tc>
              </a:tr>
              <a:tr h="97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gradFill rotWithShape="0">
                      <a:gsLst>
                        <a:gs pos="0">
                          <a:srgbClr val="92cfcf"/>
                        </a:gs>
                        <a:gs pos="100000">
                          <a:srgbClr val="e0efe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Наилучшие воспитательные результаты дает требовательность, контроль, строгость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gradFill rotWithShape="0">
                      <a:gsLst>
                        <a:gs pos="0">
                          <a:srgbClr val="92cfcf"/>
                        </a:gs>
                        <a:gs pos="100000">
                          <a:srgbClr val="e0efe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56%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gradFill rotWithShape="0">
                      <a:gsLst>
                        <a:gs pos="0">
                          <a:srgbClr val="92cfcf"/>
                        </a:gs>
                        <a:gs pos="100000">
                          <a:srgbClr val="e0efef"/>
                        </a:gs>
                      </a:gsLst>
                      <a:lin ang="8100000"/>
                    </a:gradFill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31%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gradFill rotWithShape="0">
                      <a:gsLst>
                        <a:gs pos="0">
                          <a:srgbClr val="92cfcf"/>
                        </a:gs>
                        <a:gs pos="100000">
                          <a:srgbClr val="e0efe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Младшее поколение должно учиться у старших, как ему следует жить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gradFill rotWithShape="0">
                      <a:gsLst>
                        <a:gs pos="0">
                          <a:srgbClr val="92cfcf"/>
                        </a:gs>
                        <a:gs pos="100000">
                          <a:srgbClr val="e0efe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45%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gradFill rotWithShape="0">
                      <a:gsLst>
                        <a:gs pos="0">
                          <a:srgbClr val="92cfcf"/>
                        </a:gs>
                        <a:gs pos="100000">
                          <a:srgbClr val="e0efef"/>
                        </a:gs>
                      </a:gsLst>
                      <a:lin ang="8100000"/>
                    </a:gradFill>
                  </a:tcPr>
                </a:tc>
              </a:tr>
              <a:tr h="12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gradFill rotWithShape="0">
                      <a:gsLst>
                        <a:gs pos="0">
                          <a:srgbClr val="92cfcf"/>
                        </a:gs>
                        <a:gs pos="100000">
                          <a:srgbClr val="e0efe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В воспитании следует добиваться, чтобы у людей возникло как можно больше общего в интересах, взглядах, увлечениях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gradFill rotWithShape="0">
                      <a:gsLst>
                        <a:gs pos="0">
                          <a:srgbClr val="92cfcf"/>
                        </a:gs>
                        <a:gs pos="100000">
                          <a:srgbClr val="e0efe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44%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gradFill rotWithShape="0">
                      <a:gsLst>
                        <a:gs pos="0">
                          <a:srgbClr val="92cfcf"/>
                        </a:gs>
                        <a:gs pos="100000">
                          <a:srgbClr val="e0efef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cc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6"/>
          <p:cNvSpPr/>
          <p:nvPr/>
        </p:nvSpPr>
        <p:spPr>
          <a:xfrm>
            <a:off x="4267080" y="763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00"/>
                </a:solidFill>
                <a:latin typeface="Arial"/>
              </a:rPr>
              <a:t>Проект «Кадетское образование»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01" name="Rectangle 2" descr=""/>
          <p:cNvPicPr/>
          <p:nvPr/>
        </p:nvPicPr>
        <p:blipFill>
          <a:blip r:embed="rId1"/>
          <a:stretch/>
        </p:blipFill>
        <p:spPr>
          <a:xfrm>
            <a:off x="450720" y="438120"/>
            <a:ext cx="8474040" cy="159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2" name=""/>
          <p:cNvGraphicFramePr/>
          <p:nvPr/>
        </p:nvGraphicFramePr>
        <p:xfrm>
          <a:off x="685800" y="2209680"/>
          <a:ext cx="8015400" cy="4235400"/>
        </p:xfrm>
        <a:graphic>
          <a:graphicData uri="http://schemas.openxmlformats.org/drawingml/2006/table">
            <a:tbl>
              <a:tblPr/>
              <a:tblGrid>
                <a:gridCol w="920880"/>
                <a:gridCol w="6102360"/>
                <a:gridCol w="992160"/>
              </a:tblGrid>
              <a:tr h="80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47%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gradFill rotWithShape="0">
                      <a:gsLst>
                        <a:gs pos="0">
                          <a:srgbClr val="92cfcf"/>
                        </a:gs>
                        <a:gs pos="100000">
                          <a:srgbClr val="e0efe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Лучше переоценить воспитанника, чем недооценить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gradFill rotWithShape="0">
                      <a:gsLst>
                        <a:gs pos="0">
                          <a:srgbClr val="92cfcf"/>
                        </a:gs>
                        <a:gs pos="100000">
                          <a:srgbClr val="e0efe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45%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gradFill rotWithShape="0">
                      <a:gsLst>
                        <a:gs pos="0">
                          <a:srgbClr val="92cfcf"/>
                        </a:gs>
                        <a:gs pos="100000">
                          <a:srgbClr val="e0efef"/>
                        </a:gs>
                      </a:gsLst>
                      <a:lin ang="10800000"/>
                    </a:gradFill>
                  </a:tcPr>
                </a:tc>
              </a:tr>
              <a:tr h="80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37%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gradFill rotWithShape="0">
                      <a:gsLst>
                        <a:gs pos="0">
                          <a:srgbClr val="92cfcf"/>
                        </a:gs>
                        <a:gs pos="100000">
                          <a:srgbClr val="e0efe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Я верю, что выбор, который сделают мои воспитанники, будет правильным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gradFill rotWithShape="0">
                      <a:gsLst>
                        <a:gs pos="0">
                          <a:srgbClr val="92cfcf"/>
                        </a:gs>
                        <a:gs pos="100000">
                          <a:srgbClr val="e0efe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62%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gradFill rotWithShape="0">
                      <a:gsLst>
                        <a:gs pos="0">
                          <a:srgbClr val="92cfcf"/>
                        </a:gs>
                        <a:gs pos="100000">
                          <a:srgbClr val="e0efef"/>
                        </a:gs>
                      </a:gsLst>
                      <a:lin ang="10800000"/>
                    </a:gradFill>
                  </a:tcPr>
                </a:tc>
              </a:tr>
              <a:tr h="90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38%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gradFill rotWithShape="0">
                      <a:gsLst>
                        <a:gs pos="0">
                          <a:srgbClr val="92cfcf"/>
                        </a:gs>
                        <a:gs pos="100000">
                          <a:srgbClr val="e0efe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Ребята любят беседовать со мной «по душам»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gradFill rotWithShape="0">
                      <a:gsLst>
                        <a:gs pos="0">
                          <a:srgbClr val="92cfcf"/>
                        </a:gs>
                        <a:gs pos="100000">
                          <a:srgbClr val="e0efe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51%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gradFill rotWithShape="0">
                      <a:gsLst>
                        <a:gs pos="0">
                          <a:srgbClr val="92cfcf"/>
                        </a:gs>
                        <a:gs pos="100000">
                          <a:srgbClr val="e0efef"/>
                        </a:gs>
                      </a:gsLst>
                      <a:lin ang="10800000"/>
                    </a:gradFill>
                  </a:tcPr>
                </a:tc>
              </a:tr>
              <a:tr h="80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gradFill rotWithShape="0">
                      <a:gsLst>
                        <a:gs pos="0">
                          <a:srgbClr val="92cfcf"/>
                        </a:gs>
                        <a:gs pos="100000">
                          <a:srgbClr val="e0efe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В работе с воспитанниками важно помочь ему найти себя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gradFill rotWithShape="0">
                      <a:gsLst>
                        <a:gs pos="0">
                          <a:srgbClr val="92cfcf"/>
                        </a:gs>
                        <a:gs pos="100000">
                          <a:srgbClr val="e0efe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gradFill rotWithShape="0">
                      <a:gsLst>
                        <a:gs pos="0">
                          <a:srgbClr val="92cfcf"/>
                        </a:gs>
                        <a:gs pos="100000">
                          <a:srgbClr val="e0efef"/>
                        </a:gs>
                      </a:gsLst>
                      <a:lin ang="10800000"/>
                    </a:gra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gradFill rotWithShape="0">
                      <a:gsLst>
                        <a:gs pos="0">
                          <a:srgbClr val="92cfcf"/>
                        </a:gs>
                        <a:gs pos="100000">
                          <a:srgbClr val="e0efe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Проблемы, с которыми сталкиваются мои воспитанники в жизни, я часто обсуждаю с ними в беседах на этические темы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gradFill rotWithShape="0">
                      <a:gsLst>
                        <a:gs pos="0">
                          <a:srgbClr val="92cfcf"/>
                        </a:gs>
                        <a:gs pos="100000">
                          <a:srgbClr val="e0efe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65%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gradFill rotWithShape="0">
                      <a:gsLst>
                        <a:gs pos="0">
                          <a:srgbClr val="92cfcf"/>
                        </a:gs>
                        <a:gs pos="100000">
                          <a:srgbClr val="e0efef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cc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4267080" y="763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00"/>
                </a:solidFill>
                <a:latin typeface="Arial"/>
              </a:rPr>
              <a:t>Проект «Кадетское образование»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04" name="Rectangle 2" descr=""/>
          <p:cNvPicPr/>
          <p:nvPr/>
        </p:nvPicPr>
        <p:blipFill>
          <a:blip r:embed="rId1"/>
          <a:stretch/>
        </p:blipFill>
        <p:spPr>
          <a:xfrm>
            <a:off x="603360" y="512640"/>
            <a:ext cx="8547120" cy="159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5" name=""/>
          <p:cNvGraphicFramePr/>
          <p:nvPr/>
        </p:nvGraphicFramePr>
        <p:xfrm>
          <a:off x="609480" y="2743200"/>
          <a:ext cx="8229600" cy="2516040"/>
        </p:xfrm>
        <a:graphic>
          <a:graphicData uri="http://schemas.openxmlformats.org/drawingml/2006/table">
            <a:tbl>
              <a:tblPr/>
              <a:tblGrid>
                <a:gridCol w="946440"/>
                <a:gridCol w="6264000"/>
                <a:gridCol w="1019160"/>
              </a:tblGrid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57%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gradFill rotWithShape="0">
                      <a:gsLst>
                        <a:gs pos="0">
                          <a:srgbClr val="92cfcf"/>
                        </a:gs>
                        <a:gs pos="100000">
                          <a:srgbClr val="e0efe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Ничто человека так не учит, как его жизненный опыт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gradFill rotWithShape="0">
                      <a:gsLst>
                        <a:gs pos="0">
                          <a:srgbClr val="92cfcf"/>
                        </a:gs>
                        <a:gs pos="100000">
                          <a:srgbClr val="e0efe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66%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gradFill rotWithShape="0">
                      <a:gsLst>
                        <a:gs pos="0">
                          <a:srgbClr val="92cfcf"/>
                        </a:gs>
                        <a:gs pos="100000">
                          <a:srgbClr val="e0efef"/>
                        </a:gs>
                      </a:gsLst>
                      <a:lin ang="8100000"/>
                    </a:gradFill>
                  </a:tcPr>
                </a:tc>
              </a:tr>
              <a:tr h="80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37%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gradFill rotWithShape="0">
                      <a:gsLst>
                        <a:gs pos="0">
                          <a:srgbClr val="92cfcf"/>
                        </a:gs>
                        <a:gs pos="100000">
                          <a:srgbClr val="e0efe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Я больше доверяю своему жизненному опыту, чем методическим рекомендациям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gradFill rotWithShape="0">
                      <a:gsLst>
                        <a:gs pos="0">
                          <a:srgbClr val="92cfcf"/>
                        </a:gs>
                        <a:gs pos="100000">
                          <a:srgbClr val="e0efe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55%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gradFill rotWithShape="0">
                      <a:gsLst>
                        <a:gs pos="0">
                          <a:srgbClr val="92cfcf"/>
                        </a:gs>
                        <a:gs pos="100000">
                          <a:srgbClr val="e0efef"/>
                        </a:gs>
                      </a:gsLst>
                      <a:lin ang="8100000"/>
                    </a:gradFill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31%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gradFill rotWithShape="0">
                      <a:gsLst>
                        <a:gs pos="0">
                          <a:srgbClr val="92cfcf"/>
                        </a:gs>
                        <a:gs pos="100000">
                          <a:srgbClr val="e0efe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Обычно я точно определяю предел возможностей моих воспитанников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gradFill rotWithShape="0">
                      <a:gsLst>
                        <a:gs pos="0">
                          <a:srgbClr val="92cfcf"/>
                        </a:gs>
                        <a:gs pos="100000">
                          <a:srgbClr val="e0efe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42%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gradFill rotWithShape="0">
                      <a:gsLst>
                        <a:gs pos="0">
                          <a:srgbClr val="92cfcf"/>
                        </a:gs>
                        <a:gs pos="100000">
                          <a:srgbClr val="e0efef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cc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4267080" y="763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00"/>
                </a:solidFill>
                <a:latin typeface="Arial"/>
              </a:rPr>
              <a:t>Проект «Кадетское образование»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9" name="Rectangle 2" descr=""/>
          <p:cNvPicPr/>
          <p:nvPr/>
        </p:nvPicPr>
        <p:blipFill>
          <a:blip r:embed="rId1"/>
          <a:stretch/>
        </p:blipFill>
        <p:spPr>
          <a:xfrm>
            <a:off x="682560" y="1292400"/>
            <a:ext cx="8150400" cy="4809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cc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4267080" y="763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00"/>
                </a:solidFill>
                <a:latin typeface="Arial"/>
              </a:rPr>
              <a:t>Проект «Кадетское образование»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07" name="Rectangle 2" descr=""/>
          <p:cNvPicPr/>
          <p:nvPr/>
        </p:nvPicPr>
        <p:blipFill>
          <a:blip r:embed="rId1"/>
          <a:stretch/>
        </p:blipFill>
        <p:spPr>
          <a:xfrm>
            <a:off x="450720" y="590400"/>
            <a:ext cx="8474040" cy="159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8" name=""/>
          <p:cNvGraphicFramePr/>
          <p:nvPr/>
        </p:nvGraphicFramePr>
        <p:xfrm>
          <a:off x="609480" y="2895480"/>
          <a:ext cx="8229600" cy="2516400"/>
        </p:xfrm>
        <a:graphic>
          <a:graphicData uri="http://schemas.openxmlformats.org/drawingml/2006/table">
            <a:tbl>
              <a:tblPr/>
              <a:tblGrid>
                <a:gridCol w="946440"/>
                <a:gridCol w="6264000"/>
                <a:gridCol w="1019160"/>
              </a:tblGrid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54%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Я постоянно осваиваю новые формы и методы  работы с воспитанниками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61%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43%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В работе с воспитанниками важно передать им свое отношение к жизни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57%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36%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Мне нравится, когда ребята в чем-то подражают мне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blipFill rotWithShape="0">
                      <a:blip r:embed="rId10"/>
                      <a:stretch/>
                    </a:blip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cc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4267080" y="763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00"/>
                </a:solidFill>
                <a:latin typeface="Arial"/>
              </a:rPr>
              <a:t>Проект «Кадетское образование»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Cambria"/>
              </a:rPr>
              <a:t>Выводы: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380880" y="2362320"/>
            <a:ext cx="84726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c463e"/>
                </a:solidFill>
                <a:latin typeface="Verdana"/>
              </a:rPr>
              <a:t>Противоречивость, эклектичность позиции: зачастую позитивно оценивают диаметрально противоположные позиции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c463e"/>
                </a:solidFill>
                <a:latin typeface="Verdana"/>
              </a:rPr>
              <a:t>В целом 4 фактора набирают близкие оценки, гуманистическая ориентация чуть превосходит традиционную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cc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4267080" y="763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00"/>
                </a:solidFill>
                <a:latin typeface="Arial"/>
              </a:rPr>
              <a:t>Проект «Кадетское образование»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ambria"/>
              </a:rPr>
              <a:t>Главные приоритеты деятельности воспитателей 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214" name="Object 2"/>
          <p:cNvGraphicFramePr/>
          <p:nvPr/>
        </p:nvGraphicFramePr>
        <p:xfrm>
          <a:off x="152280" y="2209680"/>
          <a:ext cx="8891640" cy="414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09680"/>
                    <a:ext cx="8891640" cy="4145040"/>
                  </a:xfrm>
                  <a:prstGeom prst="rect">
                    <a:avLst/>
                  </a:prstGeom>
                  <a:ln w="57240">
                    <a:solidFill>
                      <a:srgbClr val="009999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cc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4267080" y="763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00"/>
                </a:solidFill>
                <a:latin typeface="Arial"/>
              </a:rPr>
              <a:t>Проект «Кадетское образование»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17" name="Rectangle 2" descr=""/>
          <p:cNvPicPr/>
          <p:nvPr/>
        </p:nvPicPr>
        <p:blipFill>
          <a:blip r:embed="rId1"/>
          <a:stretch/>
        </p:blipFill>
        <p:spPr>
          <a:xfrm>
            <a:off x="450720" y="407880"/>
            <a:ext cx="8394840" cy="179244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15" descr=""/>
          <p:cNvPicPr/>
          <p:nvPr/>
        </p:nvPicPr>
        <p:blipFill>
          <a:blip r:embed="rId2">
            <a:alphaModFix amt="47000"/>
          </a:blip>
          <a:stretch/>
        </p:blipFill>
        <p:spPr>
          <a:xfrm>
            <a:off x="534960" y="2209680"/>
            <a:ext cx="8075520" cy="4362480"/>
          </a:xfrm>
          <a:prstGeom prst="rect">
            <a:avLst/>
          </a:prstGeom>
          <a:ln w="38160">
            <a:solidFill>
              <a:srgbClr val="4d7300"/>
            </a:solidFill>
            <a:miter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cc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4267080" y="763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00"/>
                </a:solidFill>
                <a:latin typeface="Arial"/>
              </a:rPr>
              <a:t>Проект «Кадетское образование»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Cambria"/>
              </a:rPr>
              <a:t>Повышение квалификации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221" name="Object 2"/>
          <p:cNvGraphicFramePr/>
          <p:nvPr/>
        </p:nvGraphicFramePr>
        <p:xfrm>
          <a:off x="571680" y="2209680"/>
          <a:ext cx="8219880" cy="414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209680"/>
                    <a:ext cx="8219880" cy="4148280"/>
                  </a:xfrm>
                  <a:prstGeom prst="rect">
                    <a:avLst/>
                  </a:prstGeom>
                  <a:ln w="38160">
                    <a:solidFill>
                      <a:srgbClr val="00808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cc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6"/>
          <p:cNvSpPr/>
          <p:nvPr/>
        </p:nvSpPr>
        <p:spPr>
          <a:xfrm>
            <a:off x="4267080" y="763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00"/>
                </a:solidFill>
                <a:latin typeface="Arial"/>
              </a:rPr>
              <a:t>Проект «Кадетское образование»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Cambria"/>
              </a:rPr>
              <a:t>Владение учителями современными технологиями: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25" name="Рисунок 24" descr=""/>
          <p:cNvPicPr/>
          <p:nvPr/>
        </p:nvPicPr>
        <p:blipFill>
          <a:blip r:embed="rId1">
            <a:alphaModFix amt="46000"/>
          </a:blip>
          <a:stretch/>
        </p:blipFill>
        <p:spPr>
          <a:xfrm>
            <a:off x="457200" y="1752480"/>
            <a:ext cx="8229600" cy="4808520"/>
          </a:xfrm>
          <a:prstGeom prst="rect">
            <a:avLst/>
          </a:prstGeom>
          <a:ln w="38160">
            <a:solidFill>
              <a:srgbClr val="4d7300"/>
            </a:solidFill>
            <a:miter/>
          </a:ln>
        </p:spPr>
      </p:pic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cc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4267080" y="763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00"/>
                </a:solidFill>
                <a:latin typeface="Arial"/>
              </a:rPr>
              <a:t>Проект «Кадетское образование»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Cambria"/>
              </a:rPr>
              <a:t>Необходимые направления повышения квалификации </a:t>
            </a:r>
            <a:br>
              <a:rPr sz="3600"/>
            </a:br>
            <a:r>
              <a:rPr b="1" lang="en-US" sz="3200" spc="-1" strike="noStrike">
                <a:solidFill>
                  <a:srgbClr val="660033"/>
                </a:solidFill>
                <a:latin typeface="Cambria"/>
              </a:rPr>
              <a:t>(по мнению учителей):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468360" y="2276640"/>
          <a:ext cx="8229600" cy="3948120"/>
        </p:xfrm>
        <a:graphic>
          <a:graphicData uri="http://schemas.openxmlformats.org/drawingml/2006/table">
            <a:tbl>
              <a:tblPr/>
              <a:tblGrid>
                <a:gridCol w="5472000"/>
                <a:gridCol w="2757600"/>
              </a:tblGrid>
              <a:tr h="700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1. Сетевое взаимодействие с партнерами 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</a:tr>
              <a:tr h="118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2. Инновационная деятельность ОУ, подготовка к инновационной деятельности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3. Подготовка к ЕГЭ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</a:tr>
              <a:tr h="84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4. Использование в процессе обучения информационных технологий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5. Разработка образовательных программ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Verdana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stretch/>
                    </a:blip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cc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4267080" y="763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00"/>
                </a:solidFill>
                <a:latin typeface="Arial"/>
              </a:rPr>
              <a:t>Проект «Кадетское образование»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Cambria"/>
              </a:rPr>
              <a:t>Необходимые направления повышения квалификации </a:t>
            </a:r>
            <a:br>
              <a:rPr sz="3600"/>
            </a:br>
            <a:r>
              <a:rPr b="1" lang="en-US" sz="3200" spc="-1" strike="noStrike">
                <a:solidFill>
                  <a:srgbClr val="660033"/>
                </a:solidFill>
                <a:latin typeface="Cambria"/>
              </a:rPr>
              <a:t>(по мнению воспитателей):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533520" y="2514600"/>
          <a:ext cx="8229600" cy="3562200"/>
        </p:xfrm>
        <a:graphic>
          <a:graphicData uri="http://schemas.openxmlformats.org/drawingml/2006/table">
            <a:tbl>
              <a:tblPr/>
              <a:tblGrid>
                <a:gridCol w="5759280"/>
                <a:gridCol w="2470320"/>
              </a:tblGrid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. Социализация учащихся, их подготовка ко взрослой жизни</a:t>
                      </a:r>
                      <a:endParaRPr b="0" lang="en-US" sz="24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4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2. Использование в процессе обучения информационных технологий</a:t>
                      </a:r>
                      <a:endParaRPr b="0" lang="en-US" sz="24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24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3. Разработка образовательных программ</a:t>
                      </a:r>
                      <a:endParaRPr b="0" lang="en-US" sz="24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4. Вопросы, касающиеся развития подростков, их психологии </a:t>
                      </a:r>
                      <a:endParaRPr b="0" lang="en-US" sz="24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5. Подготовка к ЕГЭ</a:t>
                      </a:r>
                      <a:endParaRPr b="0" lang="en-US" sz="24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stretch/>
                    </a:blip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cc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6"/>
          <p:cNvSpPr/>
          <p:nvPr/>
        </p:nvSpPr>
        <p:spPr>
          <a:xfrm>
            <a:off x="4267080" y="763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00"/>
                </a:solidFill>
                <a:latin typeface="Arial"/>
              </a:rPr>
              <a:t>Проект «Кадетское образование»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Cambria"/>
              </a:rPr>
              <a:t>Общие выводы: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04920" y="1752480"/>
            <a:ext cx="853416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4d00"/>
                </a:solidFill>
                <a:latin typeface="Verdana"/>
              </a:rPr>
              <a:t>Из представленных материалов рекомендуется </a:t>
            </a:r>
            <a:r>
              <a:rPr b="1" lang="en-US" sz="2400" spc="-1" strike="noStrike">
                <a:solidFill>
                  <a:srgbClr val="334d00"/>
                </a:solidFill>
                <a:latin typeface="Verdana"/>
              </a:rPr>
              <a:t>обратить внимание </a:t>
            </a:r>
            <a:r>
              <a:rPr b="0" lang="en-US" sz="2400" spc="-1" strike="noStrike">
                <a:solidFill>
                  <a:srgbClr val="334d00"/>
                </a:solidFill>
                <a:latin typeface="Verdana"/>
              </a:rPr>
              <a:t>на следующие составляющие сферы управления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550"/>
              </a:spcBef>
              <a:buClr>
                <a:srgbClr val="334d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4d00"/>
                </a:solidFill>
                <a:latin typeface="Verdana"/>
                <a:ea typeface="Arial"/>
              </a:rPr>
              <a:t> </a:t>
            </a:r>
            <a:r>
              <a:rPr b="1" lang="en-US" sz="2200" spc="-1" strike="noStrike">
                <a:solidFill>
                  <a:srgbClr val="334d00"/>
                </a:solidFill>
                <a:latin typeface="Verdana"/>
                <a:ea typeface="Arial"/>
              </a:rPr>
              <a:t>условия труда учителей и воспитателей;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550"/>
              </a:spcBef>
              <a:buClr>
                <a:srgbClr val="334d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4d00"/>
                </a:solidFill>
                <a:latin typeface="Verdana"/>
                <a:ea typeface="Arial"/>
              </a:rPr>
              <a:t> </a:t>
            </a:r>
            <a:r>
              <a:rPr b="1" lang="en-US" sz="2200" spc="-1" strike="noStrike">
                <a:solidFill>
                  <a:srgbClr val="334d00"/>
                </a:solidFill>
                <a:latin typeface="Verdana"/>
                <a:ea typeface="Arial"/>
              </a:rPr>
              <a:t>учебно-методическое обеспечение учебного         процесса;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550"/>
              </a:spcBef>
              <a:buClr>
                <a:srgbClr val="334d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4d00"/>
                </a:solidFill>
                <a:latin typeface="Verdana"/>
                <a:ea typeface="Arial"/>
              </a:rPr>
              <a:t> </a:t>
            </a:r>
            <a:r>
              <a:rPr b="1" lang="en-US" sz="2200" spc="-1" strike="noStrike">
                <a:solidFill>
                  <a:srgbClr val="334d00"/>
                </a:solidFill>
                <a:latin typeface="Verdana"/>
                <a:ea typeface="Arial"/>
              </a:rPr>
              <a:t>атмосферу взаимоотношений между педагогами и другими субъектами воспитания (в частности, офицерами-воспитателями);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550"/>
              </a:spcBef>
              <a:buClr>
                <a:srgbClr val="334d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4d00"/>
                </a:solidFill>
                <a:latin typeface="Verdana"/>
                <a:ea typeface="Arial"/>
              </a:rPr>
              <a:t> </a:t>
            </a:r>
            <a:r>
              <a:rPr b="1" lang="en-US" sz="2200" spc="-1" strike="noStrike">
                <a:solidFill>
                  <a:srgbClr val="334d00"/>
                </a:solidFill>
                <a:latin typeface="Verdana"/>
                <a:ea typeface="Arial"/>
              </a:rPr>
              <a:t>повышение эффективности «местных» центров повышения квалификации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cc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4267080" y="763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00"/>
                </a:solidFill>
                <a:latin typeface="Arial"/>
              </a:rPr>
              <a:t>Проект «Кадетское образование»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36" name="Rectangle 2" descr=""/>
          <p:cNvPicPr/>
          <p:nvPr/>
        </p:nvPicPr>
        <p:blipFill>
          <a:blip r:embed="rId1"/>
          <a:stretch/>
        </p:blipFill>
        <p:spPr>
          <a:xfrm>
            <a:off x="450720" y="450720"/>
            <a:ext cx="8242560" cy="138456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"/>
          <p:cNvSpPr/>
          <p:nvPr/>
        </p:nvSpPr>
        <p:spPr>
          <a:xfrm>
            <a:off x="533520" y="1981080"/>
            <a:ext cx="82296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34d00"/>
                </a:solidFill>
                <a:latin typeface="Verdana"/>
              </a:rPr>
              <a:t>система постдипломного образования учителей должна включать: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Verdana"/>
                <a:ea typeface="Arial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Verdana"/>
                <a:ea typeface="Arial"/>
              </a:rPr>
              <a:t>приобщение учителей к знаниям, характеризующим современную образовательную ситуацию в целом (в Санкт-Петербурге, в частности);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Verdana"/>
                <a:ea typeface="Arial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Verdana"/>
                <a:ea typeface="Arial"/>
              </a:rPr>
              <a:t>более глубокий анализ различных аспектов деятельности «военной» школы;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Verdana"/>
                <a:ea typeface="Arial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Verdana"/>
                <a:ea typeface="Arial"/>
              </a:rPr>
              <a:t>обогащение и распространение передового практического опыта;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Verdana"/>
                <a:ea typeface="Arial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Verdana"/>
                <a:ea typeface="Arial"/>
              </a:rPr>
              <a:t>приобщение учителей к современным образовательным технологиям (в частности информационным, к технологии «мастерских», проектной методике и т.д. 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cc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4267080" y="763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00"/>
                </a:solidFill>
                <a:latin typeface="Arial"/>
              </a:rPr>
              <a:t>Проект «Кадетское образование»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857160" y="1000080"/>
            <a:ext cx="778680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Cambria"/>
              </a:rPr>
              <a:t>Учителя: 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00"/>
                </a:solidFill>
                <a:latin typeface="Verdana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Женщины -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71%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опрошенных;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мужчины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29 %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По сравнению с «гражданскими» ОУ, где мужчины составляют 10 %, в «военных» доля мужчин выше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Cambria"/>
              </a:rPr>
              <a:t>Воспитатели: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Только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11%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респондентов составляют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женщины, 89% - мужчины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, т.е. распределение по половому признаку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противоположно распределению учителей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cc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6"/>
          <p:cNvSpPr/>
          <p:nvPr/>
        </p:nvSpPr>
        <p:spPr>
          <a:xfrm>
            <a:off x="4267080" y="763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00"/>
                </a:solidFill>
                <a:latin typeface="Arial"/>
              </a:rPr>
              <a:t>Проект «Кадетское образование»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39" name="Rectangle 2" descr=""/>
          <p:cNvPicPr/>
          <p:nvPr/>
        </p:nvPicPr>
        <p:blipFill>
          <a:blip r:embed="rId1"/>
          <a:stretch/>
        </p:blipFill>
        <p:spPr>
          <a:xfrm>
            <a:off x="450720" y="450720"/>
            <a:ext cx="8242560" cy="13845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457200" y="1928880"/>
            <a:ext cx="8229600" cy="46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4d00"/>
                </a:solidFill>
                <a:latin typeface="Verdana"/>
              </a:rPr>
              <a:t>система постдипломного образования офицеров-воспитателей должна включать: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Verdana"/>
                <a:ea typeface="Arial"/>
              </a:rPr>
              <a:t>общепедагогические аспекты;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Verdana"/>
                <a:ea typeface="Arial"/>
              </a:rPr>
              <a:t>психологические особенности молодежи, в частности, обучающихся в КК;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Verdana"/>
                <a:ea typeface="Arial"/>
              </a:rPr>
              <a:t>современные технологии в области воспитания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cc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267080" y="763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00"/>
                </a:solidFill>
                <a:latin typeface="Arial"/>
              </a:rPr>
              <a:t>Проект «Кадетское образование»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Заголовок 8"/>
          <p:cNvSpPr/>
          <p:nvPr/>
        </p:nvSpPr>
        <p:spPr>
          <a:xfrm>
            <a:off x="91440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Cambria"/>
              </a:rPr>
              <a:t>Возрастной  состав  офицеров и учителей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44" name="Диаграмма 1" descr=""/>
          <p:cNvPicPr/>
          <p:nvPr/>
        </p:nvPicPr>
        <p:blipFill>
          <a:blip r:embed="rId1"/>
          <a:stretch/>
        </p:blipFill>
        <p:spPr>
          <a:xfrm>
            <a:off x="1295280" y="2514600"/>
            <a:ext cx="6782040" cy="3505320"/>
          </a:xfrm>
          <a:prstGeom prst="rect">
            <a:avLst/>
          </a:prstGeom>
          <a:ln w="47520">
            <a:solidFill>
              <a:srgbClr val="ffff47"/>
            </a:solidFill>
            <a:miter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cc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4267080" y="763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00"/>
                </a:solidFill>
                <a:latin typeface="Arial"/>
              </a:rPr>
              <a:t>Проект «Кадетское образование»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304920" y="1295280"/>
            <a:ext cx="838188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Cambria"/>
              </a:rPr>
              <a:t>Возрастной состав учителей «гражданских» и «военных» ОУ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47" name="Диаграмма 1" descr=""/>
          <p:cNvPicPr/>
          <p:nvPr/>
        </p:nvPicPr>
        <p:blipFill>
          <a:blip r:embed="rId1"/>
          <a:stretch/>
        </p:blipFill>
        <p:spPr>
          <a:xfrm>
            <a:off x="1219320" y="3352680"/>
            <a:ext cx="6553080" cy="2819520"/>
          </a:xfrm>
          <a:prstGeom prst="rect">
            <a:avLst/>
          </a:prstGeom>
          <a:ln w="47520">
            <a:solidFill>
              <a:srgbClr val="ffff47"/>
            </a:solidFill>
            <a:miter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cc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267080" y="763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00"/>
                </a:solidFill>
                <a:latin typeface="Arial"/>
              </a:rPr>
              <a:t>Проект «Кадетское образование»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Cambria"/>
              </a:rPr>
              <a:t>Стаж работы учителей в КК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387440" y="2514600"/>
            <a:ext cx="6616800" cy="3657600"/>
          </a:xfrm>
          <a:prstGeom prst="rect">
            <a:avLst/>
          </a:prstGeom>
          <a:ln w="47520">
            <a:solidFill>
              <a:srgbClr val="ffff47"/>
            </a:solidFill>
            <a:miter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cc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267080" y="763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00"/>
                </a:solidFill>
                <a:latin typeface="Arial"/>
              </a:rPr>
              <a:t>Проект «Кадетское образование»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Cambria"/>
              </a:rPr>
              <a:t>Образование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3" name="Горизонтальный свиток 5"/>
          <p:cNvSpPr/>
          <p:nvPr/>
        </p:nvSpPr>
        <p:spPr>
          <a:xfrm rot="16200000">
            <a:off x="46080" y="1454040"/>
            <a:ext cx="4556160" cy="4648320"/>
          </a:xfrm>
          <a:prstGeom prst="horizontalScroll">
            <a:avLst>
              <a:gd name="adj" fmla="val 12500"/>
            </a:avLst>
          </a:prstGeom>
          <a:solidFill>
            <a:srgbClr val="e6ffb5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Уровень образования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офицеров-воспитателей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. Среднее специальное – 5%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. Неполное высшее- 0%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.Высшее- 95%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В т.ч.имеют ученую степень – 0%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4" name="Горизонтальный свиток 6"/>
          <p:cNvSpPr/>
          <p:nvPr/>
        </p:nvSpPr>
        <p:spPr>
          <a:xfrm rot="16200000">
            <a:off x="4389480" y="1325520"/>
            <a:ext cx="4556160" cy="4952880"/>
          </a:xfrm>
          <a:prstGeom prst="horizontalScroll">
            <a:avLst>
              <a:gd name="adj" fmla="val 12500"/>
            </a:avLst>
          </a:prstGeom>
          <a:solidFill>
            <a:srgbClr val="e6ffb5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Уровень образования учителей, работающих в КК (в %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. Среднее специальное – 4%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. Неполное высшее – 1%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. Высшее – 95%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В т.ч. имеют ученую степень – 4%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cc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4267080" y="763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00"/>
                </a:solidFill>
                <a:latin typeface="Arial"/>
              </a:rPr>
              <a:t>Проект «Кадетское образование»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Cambria"/>
              </a:rPr>
              <a:t>Социальный статус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57" name="Object 2"/>
          <p:cNvGraphicFramePr/>
          <p:nvPr/>
        </p:nvGraphicFramePr>
        <p:xfrm>
          <a:off x="1071720" y="2287440"/>
          <a:ext cx="7053120" cy="365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287440"/>
                    <a:ext cx="7053120" cy="3656160"/>
                  </a:xfrm>
                  <a:prstGeom prst="rect">
                    <a:avLst/>
                  </a:prstGeom>
                  <a:ln w="38160">
                    <a:solidFill>
                      <a:srgbClr val="6699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cc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4267080" y="763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00"/>
                </a:solidFill>
                <a:latin typeface="Arial"/>
              </a:rPr>
              <a:t>Проект «Кадетское образование»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Cambria"/>
              </a:rPr>
              <a:t>Возможность профессиональной реализации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61" name="Object 3"/>
          <p:cNvGraphicFramePr/>
          <p:nvPr/>
        </p:nvGraphicFramePr>
        <p:xfrm>
          <a:off x="1219320" y="2819520"/>
          <a:ext cx="6659280" cy="345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19520"/>
                    <a:ext cx="6659280" cy="34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0:41:56Z</dcterms:created>
  <dc:creator>Ирина</dc:creator>
  <dc:description/>
  <dc:language>en-US</dc:language>
  <cp:lastModifiedBy>enelco</cp:lastModifiedBy>
  <dcterms:modified xsi:type="dcterms:W3CDTF">2009-04-27T03:49:27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