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955-8F4A-4A90-AEB1-B8DE508E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9D9-7CBD-4467-B507-3CAA9E8B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630-A3EC-44A7-B9E7-49B10831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8CD-C013-48A8-923F-47318870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801-A312-41A4-BB87-ED6812D8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8A7-0EB9-402B-8315-4DBED90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E82-0D81-4083-B22A-77AD117D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CAA-4830-4D1D-BD13-B42FFFB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8CE-5956-4C02-8DF8-DECE39D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9EE-8CB5-42ED-AF4C-2E245BC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5EB-D7CC-48B5-9782-3C4B8F5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A34-0859-458B-B95D-CA20D75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48F-4B87-4ED0-8AE3-AEB49237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3640" y="909720"/>
            <a:ext cx="68767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8120" y="981000"/>
            <a:ext cx="64677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2960" y="1090440"/>
            <a:ext cx="605808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28:37Z</dcterms:created>
  <dc:creator>enelco</dc:creator>
  <dc:description/>
  <dc:language>en-US</dc:language>
  <cp:lastModifiedBy>enelco</cp:lastModifiedBy>
  <dcterms:modified xsi:type="dcterms:W3CDTF">2009-04-30T13:28:48Z</dcterms:modified>
  <cp:revision>1</cp:revision>
  <dc:subject/>
  <dc:title>Слайд 1</dc:title>
</cp:coreProperties>
</file>